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18C3-2FB5-4093-991C-7DF5B70277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B3A6-0CAC-4DBD-B1B2-442A91633F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5530-3A96-4CEB-ABB1-9CB61DC084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1D65-3B83-4CC3-8136-94CB84B395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4EC-78D5-4861-A240-CEAEBC5F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0E6-B5F6-4074-AF40-DDE39341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939-2ED0-444E-9F85-EA618A7A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573-CC37-4B4B-8C74-5E9349F8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5FD5-A86D-4D1B-B441-8F905C20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76AC-BF6F-461F-B4A1-F6D58641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222D-EF8C-426A-BBBA-919C4F63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DF05-3722-4834-81FB-E6DCA2F4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5C39-9074-4B4D-89B9-525707EA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7A5C-34DF-4C8C-B4E9-15218DFA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AF16-3AC6-4333-A4B4-EBB1F30E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EDB-2BFA-40BB-ADCC-2C1A43FD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1179-C99D-4B8B-B7E6-7D1CA38C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DEBE-CB3F-4AE3-881F-7BE08E20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CCE4-96D4-41C2-988E-3A5B673D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7843-7405-40C6-BB4D-83ED63EF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AC1C-37EE-43BE-BE64-0D649A99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D0C58-0DA5-4BDA-8AF0-84217586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66F4D-ECF7-454E-B3EE-FDA1CDE6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5C54-E816-4D97-B68F-D1C0A438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19513-0790-4280-B279-764AFDBD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FC233-7A5A-42A2-A898-4DE107B2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433-9F9B-4329-A2C8-FA1BFFE4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6EC0F-3CC5-4697-898C-920613ED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11C6-9611-4317-9B3F-B5484796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CDD6-EAB0-4EC5-BF2E-72179B06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D654D-AC45-4864-BAC0-2C5AE44C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C393F-04F8-4172-946D-76623551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1BC9D-C612-40FD-85D1-09E6D57F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4D15-7E58-42D6-B7AB-B7A8DBA3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66449-3A60-4014-AB73-A9FEEE72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EA946-75D0-4942-8710-DCC23B26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3C2BA-54F1-4DE2-97D7-4C5BCB6F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FAF-EE75-4C28-BF34-3A3C0F0C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A10B1-85DD-41F4-BD2E-B13CA168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7429A-E12D-4EC7-B742-1B3EC282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2431B-47C6-4333-A385-AA5AE2F4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708FD-8A0D-43EC-9B04-10D66E3E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25A2D-1108-401E-BA20-1ECD1C9E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EE8C5-C693-4290-BCDB-0FBF1CA0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946A5-F392-4C83-A5E8-E8CF057F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E5581-9F75-4D22-9D92-C727A378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558AC-449A-45FA-BAD0-3267DCB2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4AF70-8432-40BD-B6DE-63DA03B3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B1E-1D89-497D-BD2A-76ADF8F9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C7C21-FCE5-4ACF-9066-017951D9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189A0-2350-4452-99A7-775C4D56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3DF2F-527F-4EF8-9A15-FE97F305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F7476-FE49-44DC-ABC0-B2B3C5A2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F8A8F-50B1-4FC4-A56B-AC2B4ADA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527AB-3795-4480-A8FB-50F7CA6F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05870-DA9B-4179-A195-856C5761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75048-12E4-4B1F-B232-5A9FC239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7AA56-13F2-4DA3-8537-865FA94F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E5609-7B80-4AAA-A145-6A34F192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E81-07CF-4B43-8389-C6C23FBA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93601-38D5-44D3-B216-7EF4CFAD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C3A1A-3DAE-40ED-B0EB-45A2CCEA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A34FE-57F1-4832-AD55-E1EB3794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CC936-E549-493A-9D1B-A45C7044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B9443-F947-4C09-8819-459D9F5B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9FA04-135F-4383-8B9F-A52C1FEA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EF847-C210-4A40-8AFD-906A6BD8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6F2DA-D020-4E4A-994D-E9967CA6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A9530-6D08-4489-9E93-A003FCCA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9FFB3-276F-4582-BD3F-29A4CBBB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D7E-89B4-4CB8-BE61-2B31F8F1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07E5F-CC7A-4B2C-B18C-DC3189CD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E9D22-03E3-4599-9E05-9437F8DE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4DECC-7164-46F8-86A6-8B1CA7E2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38C42-D3BF-481F-9ACF-240F5C71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8FAFB-9779-424E-94EF-1FA8EB24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961D8-8403-4FA2-B60D-50859BA2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E2609-D9F1-471A-BEDF-672EDD36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EDF25-BD84-4C7B-B168-30D28E66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F210A-1561-4A0E-953C-CB00AA3E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66CE2-FB02-4FA5-A06E-3A8B899E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55D-D19E-4C73-BBD4-D60C03A3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EBB94-0338-453B-8C2B-C4D63966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5F7F8-F679-424F-9EDF-9E6D0E76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8A246-CE17-4864-BE6C-DEC48DCE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8B616-6CC6-4D29-8F0C-620C309C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EA19E-F061-4E2F-8580-897AED0D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7A9-695E-4A00-9845-72A3DB47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AFC5-41D9-4306-A280-C845DE4E15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753F-E50D-4F85-BCAC-3F4848BF4A4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8CAB-FDDD-405E-AED1-DF0CBA39DF3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85F6-2B3E-4B7F-9C18-C5D8D6243EF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1DE9-663E-453F-9207-44429090E39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17AD-5C13-4E69-8FE9-B59F13F05C1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CF26-9CAE-47CA-9C65-B0B09DD4B39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mailto:mamet@krao.ru" TargetMode="External"/><Relationship Id="rId3" Type="http://schemas.openxmlformats.org/officeDocument/2006/relationships/hyperlink" Target="mailto:kev@krao.ru" TargetMode="External"/><Relationship Id="rId4" Type="http://schemas.openxmlformats.org/officeDocument/2006/relationships/hyperlink" Target="mailto:kev@krao.ru" TargetMode="External"/><Relationship Id="rId5" Type="http://schemas.openxmlformats.org/officeDocument/2006/relationships/hyperlink" Target="mailto:mastina@krao.ru" TargetMode="External"/><Relationship Id="rId6" Type="http://schemas.openxmlformats.org/officeDocument/2006/relationships/hyperlink" Target="mailto:mastina@krao.ru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4720" y="476280"/>
            <a:ext cx="80992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Получение лицензи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на образовательную деятельность организациями, осуществляющими спортивную подготовку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066920" y="4723920"/>
            <a:ext cx="4576680" cy="1297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Купша Евгения Валерьевна,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заместитель начальника отдел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лицензирования и государственной аккредитаци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г. Красноярск, 17.02.2022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Рисунок 3" descr="Герб новый"/>
          <p:cNvPicPr/>
          <p:nvPr/>
        </p:nvPicPr>
        <p:blipFill>
          <a:blip r:embed="rId1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328" name="Подзаголовок 2"/>
          <p:cNvSpPr/>
          <p:nvPr/>
        </p:nvSpPr>
        <p:spPr>
          <a:xfrm>
            <a:off x="104292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d0d0d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71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Дополнительное образование детей </a:t>
            </a:r>
            <a:br>
              <a:rPr sz="2600"/>
            </a:b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и взрослых </a:t>
            </a:r>
            <a:r>
              <a:rPr b="0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(с 01.01.2023)</a:t>
            </a: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1413000"/>
            <a:ext cx="792180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римерные дополнительные образовательные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портивной подготовк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разрабатываются Министерством спорта РФ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согласованию с Министерством просвещения РФ, в соответстви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требованиями федеральных стандартов спортивной подготовки (при их наличи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lnSpc>
                <a:spcPct val="120000"/>
              </a:lnSpc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lnSpc>
                <a:spcPct val="120000"/>
              </a:lnSpc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Рисунок 3" descr="Герб новый"/>
          <p:cNvPicPr/>
          <p:nvPr/>
        </p:nvPicPr>
        <p:blipFill>
          <a:blip r:embed="rId1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365" name="Подзаголовок 2"/>
          <p:cNvSpPr/>
          <p:nvPr/>
        </p:nvSpPr>
        <p:spPr>
          <a:xfrm>
            <a:off x="104292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rbel"/>
              </a:rPr>
              <a:t>Необходимые шаги для получения лицензии на осуществление образовательной деятельности по дополнительным общеразвивающим программам в 2022 году 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7" name="Объект 2" descr=""/>
          <p:cNvPicPr/>
          <p:nvPr/>
        </p:nvPicPr>
        <p:blipFill>
          <a:blip r:embed="rId1"/>
          <a:stretch/>
        </p:blipFill>
        <p:spPr>
          <a:xfrm>
            <a:off x="1000080" y="1054080"/>
            <a:ext cx="8004240" cy="529128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2" descr="Герб новый"/>
          <p:cNvPicPr/>
          <p:nvPr/>
        </p:nvPicPr>
        <p:blipFill>
          <a:blip r:embed="rId2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369" name="Подзаголовок 2"/>
          <p:cNvSpPr/>
          <p:nvPr/>
        </p:nvSpPr>
        <p:spPr>
          <a:xfrm>
            <a:off x="104292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472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Процедура лицензирования (5 рабочих дней)</a:t>
            </a: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1" name="Объект 3" descr=""/>
          <p:cNvPicPr/>
          <p:nvPr/>
        </p:nvPicPr>
        <p:blipFill>
          <a:blip r:embed="rId1"/>
          <a:stretch/>
        </p:blipFill>
        <p:spPr>
          <a:xfrm>
            <a:off x="1090440" y="963720"/>
            <a:ext cx="7894800" cy="54007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2" descr="Герб новый"/>
          <p:cNvPicPr/>
          <p:nvPr/>
        </p:nvPicPr>
        <p:blipFill>
          <a:blip r:embed="rId2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373" name="Подзаголовок 2"/>
          <p:cNvSpPr/>
          <p:nvPr/>
        </p:nvSpPr>
        <p:spPr>
          <a:xfrm>
            <a:off x="104292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d0d0d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115920"/>
            <a:ext cx="74995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7030a0"/>
                </a:solidFill>
                <a:latin typeface="Corbel"/>
              </a:rPr>
              <a:t>  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58560" y="115920"/>
            <a:ext cx="7705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a6d7d"/>
                </a:solidFill>
                <a:latin typeface="Corbel"/>
              </a:rPr>
              <a:t>Оценка соответствия соискателя лицензии лицензионным требованиям проводится в форме документарной оценк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Рисунок 2" descr="Герб новый"/>
          <p:cNvPicPr/>
          <p:nvPr/>
        </p:nvPicPr>
        <p:blipFill>
          <a:blip r:embed="rId1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377" name="Подзаголовок 2"/>
          <p:cNvSpPr/>
          <p:nvPr/>
        </p:nvSpPr>
        <p:spPr>
          <a:xfrm>
            <a:off x="106668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d0d0d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Схема 7" descr=""/>
          <p:cNvPicPr/>
          <p:nvPr/>
        </p:nvPicPr>
        <p:blipFill>
          <a:blip r:embed="rId2"/>
          <a:stretch/>
        </p:blipFill>
        <p:spPr>
          <a:xfrm>
            <a:off x="1066680" y="1195560"/>
            <a:ext cx="7632720" cy="5149800"/>
          </a:xfrm>
          <a:prstGeom prst="rect">
            <a:avLst/>
          </a:prstGeom>
          <a:ln w="0">
            <a:noFill/>
          </a:ln>
        </p:spPr>
      </p:pic>
      <p:cxnSp>
        <p:nvCxnSpPr>
          <p:cNvPr id="379" name="Прямая со стрелкой 3"/>
          <p:cNvCxnSpPr/>
          <p:nvPr/>
        </p:nvCxnSpPr>
        <p:spPr>
          <a:xfrm>
            <a:off x="5148000" y="2133720"/>
            <a:ext cx="1080" cy="575280"/>
          </a:xfrm>
          <a:prstGeom prst="straightConnector1">
            <a:avLst/>
          </a:prstGeom>
          <a:ln w="9360">
            <a:solidFill>
              <a:srgbClr val="32839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0" name="Прямая со стрелкой 11"/>
          <p:cNvCxnSpPr/>
          <p:nvPr/>
        </p:nvCxnSpPr>
        <p:spPr>
          <a:xfrm>
            <a:off x="5148000" y="4797000"/>
            <a:ext cx="1080" cy="577080"/>
          </a:xfrm>
          <a:prstGeom prst="straightConnector1">
            <a:avLst/>
          </a:prstGeom>
          <a:ln w="9360">
            <a:solidFill>
              <a:srgbClr val="32839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1" name="Прямая со стрелкой 12"/>
          <p:cNvCxnSpPr/>
          <p:nvPr/>
        </p:nvCxnSpPr>
        <p:spPr>
          <a:xfrm flipH="1">
            <a:off x="6300360" y="3573000"/>
            <a:ext cx="504000" cy="1080"/>
          </a:xfrm>
          <a:prstGeom prst="straightConnector1">
            <a:avLst/>
          </a:prstGeom>
          <a:ln w="9360">
            <a:solidFill>
              <a:srgbClr val="32839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2" name="Прямая со стрелкой 15"/>
          <p:cNvCxnSpPr/>
          <p:nvPr/>
        </p:nvCxnSpPr>
        <p:spPr>
          <a:xfrm flipH="1">
            <a:off x="3058920" y="3573000"/>
            <a:ext cx="505440" cy="1080"/>
          </a:xfrm>
          <a:prstGeom prst="straightConnector1">
            <a:avLst/>
          </a:prstGeom>
          <a:ln w="9360">
            <a:solidFill>
              <a:srgbClr val="328397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115920"/>
            <a:ext cx="74995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7030a0"/>
                </a:solidFill>
                <a:latin typeface="Corbel"/>
              </a:rPr>
              <a:t>  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58560" y="115920"/>
            <a:ext cx="7705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a6d7d"/>
                </a:solidFill>
                <a:latin typeface="Corbel"/>
              </a:rPr>
              <a:t>Оценка соответствия соискателя лицензии лицензионным требованиям проводится в форме документарной оценк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Рисунок 2" descr="Герб новый"/>
          <p:cNvPicPr/>
          <p:nvPr/>
        </p:nvPicPr>
        <p:blipFill>
          <a:blip r:embed="rId1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386" name="Подзаголовок 2"/>
          <p:cNvSpPr/>
          <p:nvPr/>
        </p:nvSpPr>
        <p:spPr>
          <a:xfrm>
            <a:off x="106668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d0d0d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с двумя скругленными противолежащими углами 2"/>
          <p:cNvSpPr/>
          <p:nvPr/>
        </p:nvSpPr>
        <p:spPr>
          <a:xfrm>
            <a:off x="1409760" y="1484280"/>
            <a:ext cx="7200720" cy="4176720"/>
          </a:xfrm>
          <a:prstGeom prst="pie">
            <a:avLst/>
          </a:prstGeom>
          <a:solidFill>
            <a:srgbClr val="8898c3"/>
          </a:solidFill>
          <a:ln w="381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2. Анализ представленных соискателем лицензии сведений 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ля установления соответствия 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ли несоответствия лицензионным требованиям, установленным Положением о лицензировании образовательной деятельност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115920"/>
            <a:ext cx="74995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7030a0"/>
                </a:solidFill>
                <a:latin typeface="Corbel"/>
              </a:rPr>
              <a:t>  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15920"/>
            <a:ext cx="7705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Основания для отказа в предоставлении лицензи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на осуществление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Рисунок 2" descr="Герб новый"/>
          <p:cNvPicPr/>
          <p:nvPr/>
        </p:nvPicPr>
        <p:blipFill>
          <a:blip r:embed="rId1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391" name="Подзаголовок 2"/>
          <p:cNvSpPr/>
          <p:nvPr/>
        </p:nvSpPr>
        <p:spPr>
          <a:xfrm>
            <a:off x="106668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d0d0d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Схема 5" descr=""/>
          <p:cNvPicPr/>
          <p:nvPr/>
        </p:nvPicPr>
        <p:blipFill>
          <a:blip r:embed="rId2"/>
          <a:stretch/>
        </p:blipFill>
        <p:spPr>
          <a:xfrm>
            <a:off x="1047600" y="139536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C:\Program Files (x86)\Microsoft Office\MEDIA\CAGCAT10\j0286034.wmf"/>
          <p:cNvPicPr/>
          <p:nvPr/>
        </p:nvPicPr>
        <p:blipFill>
          <a:blip r:embed="rId3"/>
          <a:stretch/>
        </p:blipFill>
        <p:spPr>
          <a:xfrm>
            <a:off x="1332000" y="1893960"/>
            <a:ext cx="795240" cy="765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C:\Program Files (x86)\Microsoft Office\MEDIA\CAGCAT10\j0286034.wmf"/>
          <p:cNvPicPr/>
          <p:nvPr/>
        </p:nvPicPr>
        <p:blipFill>
          <a:blip r:embed="rId4"/>
          <a:stretch/>
        </p:blipFill>
        <p:spPr>
          <a:xfrm>
            <a:off x="1332000" y="4503600"/>
            <a:ext cx="795240" cy="7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993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2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rbel"/>
              </a:rPr>
              <a:t>Лицензионные требования к соискателю лицензии на осуществление образовательной деятельности</a:t>
            </a: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123560" y="1306440"/>
            <a:ext cx="799308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20000"/>
              </a:lnSpc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20000"/>
              </a:lnSpc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Рисунок 3" descr="Герб новый"/>
          <p:cNvPicPr/>
          <p:nvPr/>
        </p:nvPicPr>
        <p:blipFill>
          <a:blip r:embed="rId1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398" name="Подзаголовок 2"/>
          <p:cNvSpPr/>
          <p:nvPr/>
        </p:nvSpPr>
        <p:spPr>
          <a:xfrm>
            <a:off x="104292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Схема 5" descr=""/>
          <p:cNvPicPr/>
          <p:nvPr/>
        </p:nvPicPr>
        <p:blipFill>
          <a:blip r:embed="rId2"/>
          <a:stretch/>
        </p:blipFill>
        <p:spPr>
          <a:xfrm>
            <a:off x="1036800" y="1262160"/>
            <a:ext cx="800388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236240" y="404280"/>
            <a:ext cx="7921800" cy="59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1" name="Рисунок 3" descr="Герб новый"/>
          <p:cNvPicPr/>
          <p:nvPr/>
        </p:nvPicPr>
        <p:blipFill>
          <a:blip r:embed="rId1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402" name="Подзаголовок 2"/>
          <p:cNvSpPr/>
          <p:nvPr/>
        </p:nvSpPr>
        <p:spPr>
          <a:xfrm>
            <a:off x="104292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d0d0d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403280" y="692280"/>
          <a:ext cx="7201080" cy="5257800"/>
        </p:xfrm>
        <a:graphic>
          <a:graphicData uri="http://schemas.openxmlformats.org/drawingml/2006/table">
            <a:tbl>
              <a:tblPr/>
              <a:tblGrid>
                <a:gridCol w="963720"/>
                <a:gridCol w="1728720"/>
                <a:gridCol w="2303640"/>
                <a:gridCol w="792000"/>
                <a:gridCol w="1413000"/>
              </a:tblGrid>
              <a:tr h="74772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тдел лицензирования и государственной аккреди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. Красноярск, ул. К. Маркса, 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e8ee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 rowSpan="8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б. 4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чальник отде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метьева Ольга Николаев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21-03-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8dc765"/>
                          </a:solidFill>
                          <a:uFillTx/>
                          <a:latin typeface="Corbel"/>
                          <a:hlinkClick r:id="rId2"/>
                        </a:rPr>
                        <a:t>mamet@krao.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меститель начальника отде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упша Евгения Валерьев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11-59-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8dc765"/>
                          </a:solidFill>
                          <a:uFillTx/>
                          <a:latin typeface="Gill Sans MT"/>
                          <a:hlinkClick r:id="rId3"/>
                        </a:rPr>
                        <a:t>kev</a:t>
                      </a:r>
                      <a:r>
                        <a:rPr b="0" lang="ru-RU" sz="1100" spc="-1" strike="noStrike" u="sng">
                          <a:solidFill>
                            <a:srgbClr val="8dc765"/>
                          </a:solidFill>
                          <a:uFillTx/>
                          <a:latin typeface="Corbel"/>
                          <a:hlinkClick r:id="rId4"/>
                        </a:rPr>
                        <a:t>@krao.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8dc765"/>
                          </a:solidFill>
                          <a:uFillTx/>
                          <a:latin typeface="Corbel"/>
                          <a:hlinkClick r:id="rId5"/>
                        </a:rPr>
                        <a:t>ma</a:t>
                      </a:r>
                      <a:r>
                        <a:rPr b="0" lang="en-US" sz="1100" spc="-1" strike="noStrike" u="sng">
                          <a:solidFill>
                            <a:srgbClr val="8dc765"/>
                          </a:solidFill>
                          <a:uFillTx/>
                          <a:latin typeface="Gill Sans MT"/>
                          <a:hlinkClick r:id="rId6"/>
                        </a:rPr>
                        <a:t>stina</a:t>
                      </a:r>
                      <a:r>
                        <a:rPr b="1" lang="ru-RU" sz="11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</a:rPr>
                        <a:t>@krao.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лавный специалист отде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стина Татьяна Викторов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лавный специалист отде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ахтель Евгения Владимиров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21-56-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vev</a:t>
                      </a:r>
                      <a:r>
                        <a:rPr b="1" lang="ru-RU" sz="11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</a:rPr>
                        <a:t>@krao.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knm</a:t>
                      </a:r>
                      <a:r>
                        <a:rPr b="1" lang="ru-RU" sz="11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</a:rPr>
                        <a:t>@krao.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лавный специалист отде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челурова Наталья Михайлов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лавный специалист отде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рчевая Ирина Николаев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21-12-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kin</a:t>
                      </a:r>
                      <a:r>
                        <a:rPr b="1" lang="ru-RU" sz="11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</a:rPr>
                        <a:t>@krao.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kna</a:t>
                      </a:r>
                      <a:r>
                        <a:rPr b="1" lang="ru-RU" sz="11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</a:rPr>
                        <a:t>@krao.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лавный специалист отде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рмнова Надежда Анатольев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лавный специалист отде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таминская Людмила Борисов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20-59-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slb</a:t>
                      </a:r>
                      <a:r>
                        <a:rPr b="1" lang="ru-RU" sz="11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</a:rPr>
                        <a:t>@krao.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066320" y="764640"/>
            <a:ext cx="79693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5" name="Рисунок 2" descr="Герб новый"/>
          <p:cNvPicPr/>
          <p:nvPr/>
        </p:nvPicPr>
        <p:blipFill>
          <a:blip r:embed="rId1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406" name="Подзаголовок 2"/>
          <p:cNvSpPr/>
          <p:nvPr/>
        </p:nvSpPr>
        <p:spPr>
          <a:xfrm>
            <a:off x="106668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d0d0d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332000" y="1844640"/>
          <a:ext cx="7200720" cy="3313080"/>
        </p:xfrm>
        <a:graphic>
          <a:graphicData uri="http://schemas.openxmlformats.org/drawingml/2006/table">
            <a:tbl>
              <a:tblPr/>
              <a:tblGrid>
                <a:gridCol w="963360"/>
                <a:gridCol w="1727280"/>
                <a:gridCol w="2305080"/>
                <a:gridCol w="792360"/>
                <a:gridCol w="1412640"/>
              </a:tblGrid>
              <a:tr h="101592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тдел лицензирования и государственной аккреди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. Красноярск, ул. К. Маркса, 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e8ee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36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б. 3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лавный специалист-юрист отде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ванова Евгения Павлов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11-93-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iep</a:t>
                      </a:r>
                      <a:r>
                        <a:rPr b="1" lang="ru-RU" sz="11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</a:rPr>
                        <a:t>@krao.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лавный специалист отде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оманкевич Елена Владимиров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-86-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evk</a:t>
                      </a:r>
                      <a:r>
                        <a:rPr b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</a:rPr>
                        <a:t>@krao.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76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лавный специалист отде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Щербак Татьяна Иванов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11-58-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sti</a:t>
                      </a:r>
                      <a:r>
                        <a:rPr b="1" lang="ru-RU" sz="11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</a:rPr>
                        <a:t>@krao.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8101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Нормативные правовые акты, регламентирующие лицензирование образовательной деятельности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42560" y="141264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закон от 04.05.2011 № 99-ФЗ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«О лицензировании отдельных видов деятельности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закон от 29.12.2012 № 273-ФЗ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«Об образовании в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ановление Правительства Российской Федерац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 18.09.2020 № 1490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«О лицензировании образовательной деятельности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закон от 30.04.2021 № 127-ФЗ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«О внесении изменений в Федеральный закон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«О физической культуре и спорте в Российской Федерации» и Федеральный закон «Об образовании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в Российской Федерации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начало действия – 01.01.202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Рисунок 3" descr="Герб новый"/>
          <p:cNvPicPr/>
          <p:nvPr/>
        </p:nvPicPr>
        <p:blipFill>
          <a:blip r:embed="rId1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332" name="Подзаголовок 2"/>
          <p:cNvSpPr/>
          <p:nvPr/>
        </p:nvSpPr>
        <p:spPr>
          <a:xfrm>
            <a:off x="104292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81010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Федеральный закон от 30.04.2021 № 127-ФЗ</a:t>
            </a: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Статья 3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42560" y="1267920"/>
            <a:ext cx="8101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ы спортивной подготовки, дополнительные предпрофессиональные программы в области физической культуры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 спорта, реализующиеся в Российской Федерации до дня вступления в силу настоящего Федерального закона, тождественны в части наименований –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Рисунок 3" descr="Герб новый"/>
          <p:cNvPicPr/>
          <p:nvPr/>
        </p:nvPicPr>
        <p:blipFill>
          <a:blip r:embed="rId1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336" name="Подзаголовок 2"/>
          <p:cNvSpPr/>
          <p:nvPr/>
        </p:nvSpPr>
        <p:spPr>
          <a:xfrm>
            <a:off x="104292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Горизонтальный свиток 3"/>
          <p:cNvSpPr/>
          <p:nvPr/>
        </p:nvSpPr>
        <p:spPr>
          <a:xfrm>
            <a:off x="1258920" y="4365720"/>
            <a:ext cx="6913440" cy="1366920"/>
          </a:xfrm>
          <a:prstGeom prst="horizontalScroll">
            <a:avLst>
              <a:gd name="adj" fmla="val 12500"/>
            </a:avLst>
          </a:prstGeom>
          <a:solidFill>
            <a:srgbClr val="3891a7"/>
          </a:solidFill>
          <a:ln w="381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ополнительным образовательным программам спортивной подгот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81010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Федеральный закон от 30.04.2021 № 127-ФЗ</a:t>
            </a: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Статья 3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Рисунок 3" descr="Герб новый"/>
          <p:cNvPicPr/>
          <p:nvPr/>
        </p:nvPicPr>
        <p:blipFill>
          <a:blip r:embed="rId1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340" name="Подзаголовок 2"/>
          <p:cNvSpPr/>
          <p:nvPr/>
        </p:nvSpPr>
        <p:spPr>
          <a:xfrm>
            <a:off x="104292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ятиугольник 7"/>
          <p:cNvSpPr/>
          <p:nvPr/>
        </p:nvSpPr>
        <p:spPr>
          <a:xfrm>
            <a:off x="1327320" y="1700280"/>
            <a:ext cx="7559640" cy="4249800"/>
          </a:xfrm>
          <a:custGeom>
            <a:avLst/>
            <a:gdLst>
              <a:gd name="textAreaLeft" fmla="*/ 0 w 7559640"/>
              <a:gd name="textAreaRight" fmla="*/ 7560000 w 7559640"/>
              <a:gd name="textAreaTop" fmla="*/ 0 h 4249800"/>
              <a:gd name="textAreaBottom" fmla="*/ 425016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29" y="0"/>
                </a:lnTo>
                <a:lnTo>
                  <a:pt x="21600" y="10800"/>
                </a:lnTo>
                <a:lnTo>
                  <a:pt x="155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891a7"/>
          </a:solidFill>
          <a:ln w="381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Организации, реализующие на день вступления в силу настоящего Федерального закона программы спортивной подготовки, должны 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получить лицензию на осуществление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42560" y="260280"/>
            <a:ext cx="7993080" cy="60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Лицензирование образовательной деятельности осуществляетс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видам образования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щее образование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ое образование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Arial"/>
                <a:ea typeface="Arial"/>
              </a:rPr>
              <a:t>дополнительное образование</a:t>
            </a:r>
            <a:r>
              <a:rPr b="0" lang="ru-RU" sz="22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ое обуче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уровням образования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профессиям, специальностям направлениям подготовк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для профессионального образования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подвидам дополнительного образования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Arial"/>
                <a:ea typeface="Arial"/>
              </a:rPr>
              <a:t>дополнительное образование детей и взрослых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ое профессиональное образова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    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Статья 91 (ч. 1) ФЗ «Об образовании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Рисунок 3" descr="Герб новый"/>
          <p:cNvPicPr/>
          <p:nvPr/>
        </p:nvPicPr>
        <p:blipFill>
          <a:blip r:embed="rId1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344" name="Подзаголовок 2"/>
          <p:cNvSpPr/>
          <p:nvPr/>
        </p:nvSpPr>
        <p:spPr>
          <a:xfrm>
            <a:off x="104292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d0d0d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71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Дополнительное образование детей </a:t>
            </a:r>
            <a:br>
              <a:rPr sz="2600"/>
            </a:b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и взрослых </a:t>
            </a:r>
            <a:r>
              <a:rPr b="0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(с 01.01.2023)</a:t>
            </a: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186920" y="1268280"/>
            <a:ext cx="79218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rbel"/>
              </a:rPr>
              <a:t>дополнительные общеразвивающие программы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дополнительные предпрофессиональные программы в области искусств,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rbel"/>
              </a:rPr>
              <a:t>дополнительные образовательные программы спортивной подготовк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Статья 12 ФЗ «Об образовании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110000"/>
              </a:lnSpc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110000"/>
              </a:lnSpc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Рисунок 3" descr="Герб новый"/>
          <p:cNvPicPr/>
          <p:nvPr/>
        </p:nvPicPr>
        <p:blipFill>
          <a:blip r:embed="rId1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348" name="Подзаголовок 2"/>
          <p:cNvSpPr/>
          <p:nvPr/>
        </p:nvSpPr>
        <p:spPr>
          <a:xfrm>
            <a:off x="104292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d0d0d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с двумя скругленными противолежащими углами 3"/>
          <p:cNvSpPr/>
          <p:nvPr/>
        </p:nvSpPr>
        <p:spPr>
          <a:xfrm>
            <a:off x="1212840" y="1390680"/>
            <a:ext cx="7775640" cy="1101600"/>
          </a:xfrm>
          <a:prstGeom prst="pie">
            <a:avLst/>
          </a:prstGeom>
          <a:solidFill>
            <a:srgbClr val="3891a7"/>
          </a:solidFill>
          <a:ln w="381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ополнительные общеобразовательные программ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том числ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71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Дополнительное образование детей </a:t>
            </a:r>
            <a:br>
              <a:rPr sz="2600"/>
            </a:b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и взрослых </a:t>
            </a:r>
            <a:r>
              <a:rPr b="0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(с 01.01.2023)</a:t>
            </a: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920" y="1413000"/>
            <a:ext cx="806616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7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rbel"/>
              </a:rPr>
              <a:t>Дополнительные общеразвивающие программы (в различных областях, </a:t>
            </a:r>
            <a:br>
              <a:rPr sz="3400"/>
            </a:br>
            <a:r>
              <a:rPr b="0" lang="ru-RU" sz="3400" spc="-1" strike="noStrike">
                <a:solidFill>
                  <a:srgbClr val="ff0000"/>
                </a:solidFill>
                <a:latin typeface="Corbel"/>
              </a:rPr>
              <a:t>в том числе в области физической культуры и спорта</a:t>
            </a:r>
            <a:r>
              <a:rPr b="0" lang="ru-RU" sz="3400" spc="-1" strike="noStrike">
                <a:solidFill>
                  <a:srgbClr val="000000"/>
                </a:solidFill>
                <a:latin typeface="Corbel"/>
              </a:rPr>
              <a:t>)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Corbel"/>
              </a:rPr>
              <a:t>и дополнительные образовательные программы спортивной подготовки 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rbel"/>
              </a:rPr>
              <a:t>реализуются </a:t>
            </a:r>
            <a:r>
              <a:rPr b="1" lang="ru-RU" sz="3400" spc="-1" strike="noStrike">
                <a:solidFill>
                  <a:srgbClr val="c00000"/>
                </a:solidFill>
                <a:latin typeface="Corbel"/>
              </a:rPr>
              <a:t>для детей и для взрослых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Статья 75  ФЗ «Об образовании в Российской Федерации»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lnSpc>
                <a:spcPct val="100000"/>
              </a:lnSpc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77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Рисунок 3" descr="Герб новый"/>
          <p:cNvPicPr/>
          <p:nvPr/>
        </p:nvPicPr>
        <p:blipFill>
          <a:blip r:embed="rId1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353" name="Подзаголовок 2"/>
          <p:cNvSpPr/>
          <p:nvPr/>
        </p:nvSpPr>
        <p:spPr>
          <a:xfrm>
            <a:off x="104292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d0d0d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71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Дополнительное образование детей </a:t>
            </a:r>
            <a:br>
              <a:rPr sz="2600"/>
            </a:b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и взрослых </a:t>
            </a:r>
            <a:r>
              <a:rPr b="0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(с 01.01.2023)</a:t>
            </a: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186920" y="1197000"/>
            <a:ext cx="79218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5680">
              <a:lnSpc>
                <a:spcPct val="100000"/>
              </a:lnSpc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1756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Для обучения по дополнительным общеобразовательным программам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 области физической культуры и спорта создаются </a:t>
            </a:r>
            <a:r>
              <a:rPr b="1" lang="ru-RU" sz="2600" spc="-1" strike="noStrike">
                <a:solidFill>
                  <a:srgbClr val="c00000"/>
                </a:solidFill>
                <a:latin typeface="Corbel"/>
              </a:rPr>
              <a:t>организации дополнительного образования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о специальным наименованием «</a:t>
            </a:r>
            <a:r>
              <a:rPr b="1" lang="ru-RU" sz="2600" spc="-1" strike="noStrike">
                <a:solidFill>
                  <a:srgbClr val="c00000"/>
                </a:solidFill>
                <a:latin typeface="Corbel"/>
              </a:rPr>
              <a:t>спортивная школа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1756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1756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портивные школы реализуют </a:t>
            </a:r>
            <a:r>
              <a:rPr b="1" lang="ru-RU" sz="2600" spc="-1" strike="noStrike">
                <a:solidFill>
                  <a:srgbClr val="c00000"/>
                </a:solidFill>
                <a:latin typeface="Corbel"/>
              </a:rPr>
              <a:t>дополнительные общеразвивающие программы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 области физической культуры и спорта и </a:t>
            </a:r>
            <a:r>
              <a:rPr b="1" lang="ru-RU" sz="2600" spc="-1" strike="noStrike">
                <a:solidFill>
                  <a:srgbClr val="c00000"/>
                </a:solidFill>
                <a:latin typeface="Corbel"/>
              </a:rPr>
              <a:t>дополнительные образовательные программы спортивной подготовк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17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17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Статья 84  ФЗ «Об образовании в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56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17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17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Рисунок 3" descr="Герб новый"/>
          <p:cNvPicPr/>
          <p:nvPr/>
        </p:nvPicPr>
        <p:blipFill>
          <a:blip r:embed="rId1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357" name="Подзаголовок 2"/>
          <p:cNvSpPr/>
          <p:nvPr/>
        </p:nvSpPr>
        <p:spPr>
          <a:xfrm>
            <a:off x="104292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71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Дополнительное образование детей </a:t>
            </a:r>
            <a:br>
              <a:rPr sz="2600"/>
            </a:b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и взрослых</a:t>
            </a: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86920" y="1197000"/>
            <a:ext cx="79218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держание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дополнительных общеразвивающи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 сроки обучения по ним определяются образовательной программой, разработанн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утвержденной организацией, осуществляющей образовательную дея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одержание </a:t>
            </a:r>
            <a:r>
              <a:rPr b="1" lang="ru-RU" sz="2500" spc="-1" strike="noStrike">
                <a:solidFill>
                  <a:srgbClr val="c00000"/>
                </a:solidFill>
                <a:latin typeface="Corbel"/>
              </a:rPr>
              <a:t>дополнительных образовательных программ спортивной подготовки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пределяется соответствующей образовательной программой, разработанной и утвержденной организацией, реализующей дополнительные образовательные программы спортивной подготовки, с учетом примерных дополнительных образовательных программ спортивной подготовки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(с 01.01.2023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Статья 75  ФЗ «Об образовании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Рисунок 3" descr="Герб новый"/>
          <p:cNvPicPr/>
          <p:nvPr/>
        </p:nvPicPr>
        <p:blipFill>
          <a:blip r:embed="rId1"/>
          <a:stretch/>
        </p:blipFill>
        <p:spPr>
          <a:xfrm>
            <a:off x="250920" y="6021360"/>
            <a:ext cx="533160" cy="644400"/>
          </a:xfrm>
          <a:prstGeom prst="rect">
            <a:avLst/>
          </a:prstGeom>
          <a:ln w="0">
            <a:noFill/>
          </a:ln>
        </p:spPr>
      </p:pic>
      <p:sp>
        <p:nvSpPr>
          <p:cNvPr id="361" name="Подзаголовок 2"/>
          <p:cNvSpPr/>
          <p:nvPr/>
        </p:nvSpPr>
        <p:spPr>
          <a:xfrm>
            <a:off x="1042920" y="6381720"/>
            <a:ext cx="3745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rbel"/>
              </a:rPr>
              <a:t>Министерство образования Краснояр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4:57:01Z</dcterms:created>
  <dc:creator>pohabova</dc:creator>
  <dc:description/>
  <dc:language>en-US</dc:language>
  <cp:lastModifiedBy>Купша Евгения Валерьевна</cp:lastModifiedBy>
  <cp:lastPrinted>2018-03-28T08:09:38Z</cp:lastPrinted>
  <dcterms:modified xsi:type="dcterms:W3CDTF">2022-02-16T03:52:51Z</dcterms:modified>
  <cp:revision>325</cp:revision>
  <dc:subject/>
  <dc:title>Слайд 1</dc:title>
</cp:coreProperties>
</file>